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E075BE-45BE-49A5-8E7B-CA759D4CD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D1324-0C9E-4F97-BCAC-E9A04390A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4C104A-CDC4-4AEC-BBB5-BE60B8D34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0502E9-BB52-45A7-8365-663B627DE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6262BE-DDD1-4314-A712-C075DB0E0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DAC3C1-A086-4AB6-9F82-5047113A9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1740EA-8029-4236-B176-CB84C232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15A016-BB4D-4DD4-9907-285B57AC9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E324-EE50-4932-A393-89EFAF531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D6A2-59DF-4EFD-AF46-7BC388E92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F0E1-339A-4742-AFD0-5206F6C17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60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84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60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84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3281-6E0C-467D-81E0-CC2F8AE1E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1422-B5AF-4245-9970-ABD65233E7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E021-C188-4536-A417-C5EA1147C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5842-01C6-4F23-BA24-DA8E59897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C445-782A-4315-B9E6-F82B6D542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DF36-466F-4BDA-9583-5EC201D24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6440-5886-411B-AFBD-C93FC7249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9C7D-DDB3-4F66-98DD-C4DED306D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4C9D-44A9-405D-AD9B-45B083F63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160"/>
            <a:ext cx="684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0D8B4BA3-EC4D-451A-ACDF-A9A2340077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4ABAFF93-CCCD-48AB-AC77-DC683D4A7D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18288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identifier ou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ontrer un nom avec l’équivalent français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/th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t/t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tilisez un article démontratif avant le n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60947EF6-69F0-48EA-BAC1-28D0729917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1295280" y="4424400"/>
            <a:ext cx="6647040" cy="1747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990720" y="1728720"/>
            <a:ext cx="7162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25B6F337-2D7D-4394-B3BA-FA0EF915C9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1371600" y="1886040"/>
            <a:ext cx="6311880" cy="30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50610B77-732F-4C65-8545-FB03157759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que les formes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uvent se référer à un nom qui est prè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/ th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u à un qui est loi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t/t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sa signification sera souvent clarifiée par le contex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851120" y="2957400"/>
            <a:ext cx="5441760" cy="14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2724120" y="4495680"/>
            <a:ext cx="36957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E27F11F5-AE90-4FF3-B3E2-8893833B6E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896840"/>
            <a:ext cx="8459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dire que quelque chose est proche, par rapport à quelque chose de plus lointain, utilisez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l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pectivement, et placez-les à la fin du nom qui suit l’adjectif démonstrat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371600" y="3497400"/>
            <a:ext cx="64008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B6C1C8D2-87EE-45F1-910A-A3B696C413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4360" y="1649160"/>
            <a:ext cx="80769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z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l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a même phrase pour comparer des choses simi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638360" y="2517840"/>
            <a:ext cx="586728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1943280" y="3889440"/>
            <a:ext cx="52578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80D5FE00-D02E-4B8A-9632-218B90EF6A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552600" y="1406520"/>
            <a:ext cx="804852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762120" y="2446200"/>
            <a:ext cx="76975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320" bIns="46800" anchor="t">
            <a:noAutofit/>
          </a:bodyPr>
          <a:p>
            <a:pPr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 glace au chocolat est très bonn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’est-ce que tu penses de __________ cadea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 homme-là est l’hôte de la fê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préfères __________ biscuits-ci ou __________ biscuits-là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aimez mieux __________ dessert-ci ou __________ dessert-là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 année-ci, on va fêter l’anniversaire de mariage de n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en famil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achètes __________ éclair-là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achetez __________ mont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 surprise va être génial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 invité-là est antipathiq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81000" y="161784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165744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létez les phrases avec la form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cte de l’adjectif démonstratif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2438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2483c8"/>
                </a:solidFill>
                <a:latin typeface="Comic Sans MS"/>
              </a:rPr>
              <a:t>Cet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5:43:44Z</dcterms:created>
  <dc:creator>© 2011 Vista Higher Learning. All rights reserved.</dc:creator>
  <dc:description/>
  <cp:keywords/>
  <dc:language>en-US</dc:language>
  <cp:lastModifiedBy>Viviane Grebert</cp:lastModifiedBy>
  <dcterms:modified xsi:type="dcterms:W3CDTF">2011-10-24T22:38:56Z</dcterms:modified>
  <cp:revision>27</cp:revision>
  <dc:subject>Espaces: Rendez-vous avec le monde francophone, Second Edition</dc:subject>
  <dc:title>Unité 6: Les fêtes</dc:title>
</cp:coreProperties>
</file>